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856C-7241-4A55-AF75-C0A763E65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8E4B-BE1D-4D66-AFEF-1E2B1C1B84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A807-6430-4A6F-8FD5-5755498B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4420-C35C-464C-8EB6-2261A312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2A08-E57A-4FF6-9659-FB770428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F95-4B17-471A-8B8E-B2C724AC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7D3A-A451-440A-85D4-4C6FB566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C49E-E4D1-41DC-BCDA-551C09CA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B35-DDFD-4A70-90F8-191FA20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C9B7-11D3-4A3F-A847-14B38CC0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1B7-F993-4D48-8FDB-3ED129CD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0B96-A0AA-4F30-953F-B6A670E3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E1E1-E317-475D-B96F-A66F88B62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850-A76D-444F-A2A7-D5AFDD49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C98C-9D07-45A2-A686-313AEAE4F6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685800" y="457200"/>
            <a:ext cx="3429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PROJECT NUMBER 4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RS – RISSIK STREET, JOHANNESBU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OOF REPAIR INVESTI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1708200" y="1365120"/>
            <a:ext cx="5727600" cy="4502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OUND FLOOR – 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 work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utlet servicing – wet services consul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Partial Screed where ponding occ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54" name="Elbow Connector 3"/>
          <p:cNvCxnSpPr/>
          <p:nvPr/>
        </p:nvCxnSpPr>
        <p:spPr>
          <a:xfrm flipV="1">
            <a:off x="3047760" y="2133360"/>
            <a:ext cx="3353400" cy="76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55" name="TextBox 3"/>
          <p:cNvSpPr/>
          <p:nvPr/>
        </p:nvSpPr>
        <p:spPr>
          <a:xfrm>
            <a:off x="5600880" y="2414520"/>
            <a:ext cx="23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Elbow Connector 13"/>
          <p:cNvCxnSpPr/>
          <p:nvPr/>
        </p:nvCxnSpPr>
        <p:spPr>
          <a:xfrm>
            <a:off x="3047760" y="2895120"/>
            <a:ext cx="3391560" cy="1164600"/>
          </a:xfrm>
          <a:prstGeom prst="bentConnector3">
            <a:avLst>
              <a:gd name="adj1" fmla="val 42547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57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685800" y="457200"/>
            <a:ext cx="3429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ROUND FLOOR – COURTY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on coping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Low maintenance window cill “Uni-Flashing”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62" name="Elbow Connector 6"/>
          <p:cNvCxnSpPr/>
          <p:nvPr/>
        </p:nvCxnSpPr>
        <p:spPr>
          <a:xfrm flipV="1">
            <a:off x="3047760" y="2133360"/>
            <a:ext cx="3353400" cy="76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3" name="Elbow Connector 7"/>
          <p:cNvCxnSpPr/>
          <p:nvPr/>
        </p:nvCxnSpPr>
        <p:spPr>
          <a:xfrm>
            <a:off x="3047760" y="2895120"/>
            <a:ext cx="3391560" cy="1164600"/>
          </a:xfrm>
          <a:prstGeom prst="bentConnector3">
            <a:avLst>
              <a:gd name="adj1" fmla="val 42547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64" name="TextBox 3"/>
          <p:cNvSpPr/>
          <p:nvPr/>
        </p:nvSpPr>
        <p:spPr>
          <a:xfrm>
            <a:off x="5600880" y="2414520"/>
            <a:ext cx="23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INDOW C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685800" y="457200"/>
            <a:ext cx="3429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FLOOR – ROOF TER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on coping deta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up onto parapet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70" name="Elbow Connector 8"/>
          <p:cNvCxnSpPr/>
          <p:nvPr/>
        </p:nvCxnSpPr>
        <p:spPr>
          <a:xfrm flipV="1">
            <a:off x="1905120" y="2133000"/>
            <a:ext cx="4496400" cy="114372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71" name="Elbow Connector 9"/>
          <p:cNvCxnSpPr/>
          <p:nvPr/>
        </p:nvCxnSpPr>
        <p:spPr>
          <a:xfrm>
            <a:off x="1523520" y="3657600"/>
            <a:ext cx="4915800" cy="4024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72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RACKED BRITTLE WATERPROOF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543640" y="541008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VES PEEL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FLOOR – ROOF TER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aintenance on out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unter flashing seals on cra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0151022_101611.jpg"/>
          <p:cNvPicPr/>
          <p:nvPr/>
        </p:nvPicPr>
        <p:blipFill>
          <a:blip r:embed="rId2"/>
          <a:stretch/>
        </p:blipFill>
        <p:spPr>
          <a:xfrm>
            <a:off x="5562720" y="27432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78" name="Elbow Connector 6"/>
          <p:cNvCxnSpPr/>
          <p:nvPr/>
        </p:nvCxnSpPr>
        <p:spPr>
          <a:xfrm flipV="1">
            <a:off x="1600200" y="761400"/>
            <a:ext cx="4953240" cy="1981800"/>
          </a:xfrm>
          <a:prstGeom prst="bentConnector3">
            <a:avLst>
              <a:gd name="adj1" fmla="val 58438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79" name="Elbow Connector 7"/>
          <p:cNvCxnSpPr/>
          <p:nvPr/>
        </p:nvCxnSpPr>
        <p:spPr>
          <a:xfrm>
            <a:off x="1523880" y="3352680"/>
            <a:ext cx="5106240" cy="610560"/>
          </a:xfrm>
          <a:prstGeom prst="bentConnector3">
            <a:avLst>
              <a:gd name="adj1" fmla="val 49996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80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DRAINAGE OUT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5524560" y="5794200"/>
            <a:ext cx="23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RACKED PARAP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CRETE ROOF AND G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rip and remove loose st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To be re-torched and painted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86" name="Elbow Connector 7"/>
          <p:cNvCxnSpPr/>
          <p:nvPr/>
        </p:nvCxnSpPr>
        <p:spPr>
          <a:xfrm flipV="1">
            <a:off x="3200400" y="2066040"/>
            <a:ext cx="2559600" cy="753480"/>
          </a:xfrm>
          <a:prstGeom prst="bentConnector3">
            <a:avLst>
              <a:gd name="adj1" fmla="val 49992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87" name="Elbow Connector 8"/>
          <p:cNvCxnSpPr/>
          <p:nvPr/>
        </p:nvCxnSpPr>
        <p:spPr>
          <a:xfrm>
            <a:off x="3123720" y="2971440"/>
            <a:ext cx="3506040" cy="200556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88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TONE COVERED CONCRETE RO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5600880" y="5424480"/>
            <a:ext cx="232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BLOCKED WITH LOOSE 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685800" y="457200"/>
            <a:ext cx="3429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NCRETE ROOF PARAPET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eal all parapet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ATER SEEPAGE IN PARAPET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5543640" y="54100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WATER SEEPAGE IN 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96" name="Elbow Connector 8"/>
          <p:cNvCxnSpPr/>
          <p:nvPr/>
        </p:nvCxnSpPr>
        <p:spPr>
          <a:xfrm flipV="1">
            <a:off x="2743200" y="1142280"/>
            <a:ext cx="3201120" cy="289620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97" name="Elbow Connector 9"/>
          <p:cNvCxnSpPr/>
          <p:nvPr/>
        </p:nvCxnSpPr>
        <p:spPr>
          <a:xfrm>
            <a:off x="2743200" y="4190760"/>
            <a:ext cx="4039200" cy="229320"/>
          </a:xfrm>
          <a:prstGeom prst="bentConnector3">
            <a:avLst>
              <a:gd name="adj1" fmla="val 49995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OF SH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roof sheets and check for leaks in gu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lear de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where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20151022_101611.jpg"/>
          <p:cNvPicPr/>
          <p:nvPr/>
        </p:nvPicPr>
        <p:blipFill>
          <a:blip r:embed="rId2"/>
          <a:stretch/>
        </p:blipFill>
        <p:spPr>
          <a:xfrm>
            <a:off x="5562720" y="27432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USTED METAL ROOF SHEE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5595840" y="579276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104" name="Elbow Connector 8"/>
          <p:cNvCxnSpPr/>
          <p:nvPr/>
        </p:nvCxnSpPr>
        <p:spPr>
          <a:xfrm flipV="1">
            <a:off x="3048120" y="1751760"/>
            <a:ext cx="3048480" cy="160092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05" name="Elbow Connector 9"/>
          <p:cNvCxnSpPr/>
          <p:nvPr/>
        </p:nvCxnSpPr>
        <p:spPr>
          <a:xfrm>
            <a:off x="3155760" y="3533400"/>
            <a:ext cx="3626280" cy="88668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3"/>
          <p:cNvSpPr/>
          <p:nvPr/>
        </p:nvSpPr>
        <p:spPr>
          <a:xfrm>
            <a:off x="685800" y="457200"/>
            <a:ext cx="3429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OOF GUTTERS AND FA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quire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Re-paint all fa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Fix onto and mak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20151022_101611.jpg"/>
          <p:cNvPicPr/>
          <p:nvPr/>
        </p:nvPicPr>
        <p:blipFill>
          <a:blip r:embed="rId1"/>
          <a:stretch/>
        </p:blipFill>
        <p:spPr>
          <a:xfrm>
            <a:off x="5181480" y="152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20151022_101611.jpg"/>
          <p:cNvPicPr/>
          <p:nvPr/>
        </p:nvPicPr>
        <p:blipFill>
          <a:blip r:embed="rId2"/>
          <a:stretch/>
        </p:blipFill>
        <p:spPr>
          <a:xfrm>
            <a:off x="5181480" y="31240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685800" y="1828800"/>
            <a:ext cx="3270240" cy="2895480"/>
          </a:xfrm>
          <a:prstGeom prst="rect">
            <a:avLst/>
          </a:prstGeom>
          <a:ln w="0">
            <a:noFill/>
          </a:ln>
        </p:spPr>
      </p:pic>
      <p:cxnSp>
        <p:nvCxnSpPr>
          <p:cNvPr id="110" name="Elbow Connector 6"/>
          <p:cNvCxnSpPr/>
          <p:nvPr/>
        </p:nvCxnSpPr>
        <p:spPr>
          <a:xfrm flipV="1">
            <a:off x="3047760" y="1218960"/>
            <a:ext cx="2972520" cy="1829520"/>
          </a:xfrm>
          <a:prstGeom prst="bentConnector3">
            <a:avLst>
              <a:gd name="adj1" fmla="val 50000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111" name="Elbow Connector 7"/>
          <p:cNvCxnSpPr/>
          <p:nvPr/>
        </p:nvCxnSpPr>
        <p:spPr>
          <a:xfrm>
            <a:off x="3048120" y="3048120"/>
            <a:ext cx="3124800" cy="305280"/>
          </a:xfrm>
          <a:prstGeom prst="bentConnector3">
            <a:avLst>
              <a:gd name="adj1" fmla="val 49994"/>
            </a:avLst>
          </a:prstGeom>
          <a:ln w="255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12" name="TextBox 3"/>
          <p:cNvSpPr/>
          <p:nvPr/>
        </p:nvSpPr>
        <p:spPr>
          <a:xfrm>
            <a:off x="5600880" y="2414520"/>
            <a:ext cx="25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AND FAS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5543640" y="5410080"/>
            <a:ext cx="276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GUTTERS AND FAS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3T02:44:30Z</dcterms:created>
  <dc:creator>Pembe</dc:creator>
  <dc:description/>
  <dc:language>en-US</dc:language>
  <cp:lastModifiedBy>Vuyokazi Ntshinga</cp:lastModifiedBy>
  <dcterms:modified xsi:type="dcterms:W3CDTF">2017-11-10T08:45:45Z</dcterms:modified>
  <cp:revision>15</cp:revision>
  <dc:subject/>
  <dc:title>Slide 1</dc:title>
</cp:coreProperties>
</file>